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7CBFC11-28D9-4D8C-835A-270B82B05433}"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9948D5A-5E0A-4F5E-BE99-CB477894136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7AA50-58B4-4033-B83B-D154EA933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8697-6474-467D-BC45-F6F8EDD4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F2B5-1FF4-4285-A747-2782557F2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7373E-7743-4220-9423-FBF452E72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94509-B2BD-4C55-A0D7-9B01E969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855C3-2E9E-4A80-A9C7-9A87F7E5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C961E-EC43-42C1-87CC-085FB62FE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EA7B6-9D89-4052-AB0F-282AE36A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EBF1-6519-485C-AC23-00D037640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47F6-81D7-49D7-A247-49450CB1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2199-3AED-4AD4-9FD4-F25F64931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59F2-4E4D-4B02-83F1-884006F2E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B180-5B52-4990-A2AB-78EBC284F9C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MRC-logo"/>
          <p:cNvPicPr/>
          <p:nvPr/>
        </p:nvPicPr>
        <p:blipFill>
          <a:blip r:embed="rId2"/>
          <a:stretch/>
        </p:blipFill>
        <p:spPr>
          <a:xfrm>
            <a:off x="7238880" y="6400800"/>
            <a:ext cx="1078200" cy="31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9BC2-22F3-49BA-9938-E767E48F50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1754-C294-49A7-9AA8-718B5B9436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8C93-1803-4729-8DD7-17FD74793C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F67C-F4D1-4305-89B7-842992518F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DDAD-B845-43AF-A7FD-D0E893A219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9094-04AF-48DD-8E8E-0532207D11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02C1-98D4-4118-AFA5-29FBB93C29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EBB2-9611-4A8E-91EF-CD99354CDA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992-CD84-46ED-A52A-2756B161FD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EEAF-A9DA-4F92-BE90-8E75AC0135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ED2E-7CB7-4175-AEB2-49D6BE1F37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3BBF-2DA8-4291-9B25-C98AE55384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879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0 October 201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5"/>
                                        </p:tgtEl>
                                        <p:attrNameLst>
                                          <p:attrName>style.visibility</p:attrName>
                                        </p:attrNameLst>
                                      </p:cBhvr>
                                      <p:to>
                                        <p:strVal val="visible"/>
                                      </p:to>
                                    </p:set>
                                    <p:animEffect filter="dissolve" transition="in">
                                      <p:cBhvr additive="repl">
                                        <p:cTn id="1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FD07-F57B-4E4E-B87C-1FC31BBF47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A5FB-5AEF-4625-A36D-3F41846374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D649-E1B2-484B-AB3D-3BA98DCCB9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B771-7EFA-4DE6-91E2-5DF1AEED56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1D3A-B8D1-40ED-A845-86AB65AE34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0934-E993-4A9E-BF2D-2960106DC9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7A1B-8A00-432F-9427-7982DFF541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541D-A964-4B54-ADAF-A5E4AA2A06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7AC6-3923-49FB-8187-2D882E3921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DD54-F15F-4826-B23F-96B31CD17E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4617-A77F-4A9F-8A8F-C20DC7081D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79CD-02A3-48B9-9E46-A105D0C38E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EE2B-07D5-4DEF-9711-BB772A6CCD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5F0C-D6A5-44ED-A453-F741A92658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B8AD-24E2-46B9-9038-9B48603DDE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51AA-8CEE-4C08-9ACF-362EBB60BF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E44E-4E11-46AE-B51B-B09FE61806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258C-30DA-42D7-AC29-3D28D124AC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6775-0768-4425-A5E8-437A861155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B117-1F21-4841-B9B4-789B66C12E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AB54-5A17-4E23-B830-E84ED89228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408">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408">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408">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408">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408">
                                            <p:txEl>
                                              <p:pRg st="5" end="5"/>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408">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408">
                                            <p:txEl>
                                              <p:pRg st="8" end="8"/>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4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F9E4-B9F5-45B1-82F8-EDDA3DC916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5">
                                            <p:txEl>
                                              <p:pRg st="1" end="1"/>
                                            </p:txEl>
                                          </p:spTgt>
                                        </p:tgtEl>
                                        <p:attrNameLst>
                                          <p:attrName>style.visibility</p:attrName>
                                        </p:attrNameLst>
                                      </p:cBhvr>
                                      <p:to>
                                        <p:strVal val="visible"/>
                                      </p:to>
                                    </p:set>
                                  </p:childTnLst>
                                </p:cTn>
                              </p:par>
                              <p:animClr clrSpc="rgb">
                                <p:cBhvr>
                                  <p:cTn id="23" dur="1" fill="hold">
                                    <p:stCondLst>
                                      <p:cond delay="0"/>
                                    </p:stCondLst>
                                  </p:cTn>
                                  <p:tgtEl>
                                    <p:spTgt spid="85">
                                      <p:txEl>
                                        <p:pRg st="0" end="0"/>
                                      </p:txEl>
                                    </p:spTgt>
                                  </p:tgtEl>
                                  <p:attrNameLst>
                                    <p:attrName>ppt_c</p:attrName>
                                  </p:attrNameLst>
                                </p:cBhvr>
                                <p:to>
                                  <a:srgbClr val="80808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85">
                                            <p:txEl>
                                              <p:pRg st="2" end="2"/>
                                            </p:txEl>
                                          </p:spTgt>
                                        </p:tgtEl>
                                        <p:attrNameLst>
                                          <p:attrName>style.visibility</p:attrName>
                                        </p:attrNameLst>
                                      </p:cBhvr>
                                      <p:to>
                                        <p:strVal val="visible"/>
                                      </p:to>
                                    </p:set>
                                  </p:childTnLst>
                                </p:cTn>
                              </p:par>
                              <p:animClr clrSpc="rgb">
                                <p:cBhvr>
                                  <p:cTn id="28" dur="1" fill="hold">
                                    <p:stCondLst>
                                      <p:cond delay="0"/>
                                    </p:stCondLst>
                                  </p:cTn>
                                  <p:tgtEl>
                                    <p:spTgt spid="85">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85">
                                            <p:txEl>
                                              <p:pRg st="3" end="3"/>
                                            </p:txEl>
                                          </p:spTgt>
                                        </p:tgtEl>
                                        <p:attrNameLst>
                                          <p:attrName>style.visibility</p:attrName>
                                        </p:attrNameLst>
                                      </p:cBhvr>
                                      <p:to>
                                        <p:strVal val="visible"/>
                                      </p:to>
                                    </p:set>
                                  </p:childTnLst>
                                </p:cTn>
                              </p:par>
                              <p:animClr clrSpc="rgb">
                                <p:cBhvr>
                                  <p:cTn id="33" dur="1" fill="hold">
                                    <p:stCondLst>
                                      <p:cond delay="0"/>
                                    </p:stCondLst>
                                  </p:cTn>
                                  <p:tgtEl>
                                    <p:spTgt spid="85">
                                      <p:txEl>
                                        <p:pRg st="2" end="2"/>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85">
                                            <p:txEl>
                                              <p:pRg st="4" end="4"/>
                                            </p:txEl>
                                          </p:spTgt>
                                        </p:tgtEl>
                                        <p:attrNameLst>
                                          <p:attrName>style.visibility</p:attrName>
                                        </p:attrNameLst>
                                      </p:cBhvr>
                                      <p:to>
                                        <p:strVal val="visible"/>
                                      </p:to>
                                    </p:set>
                                  </p:childTnLst>
                                </p:cTn>
                              </p:par>
                              <p:animClr clrSpc="rgb">
                                <p:cBhvr>
                                  <p:cTn id="38" dur="1" fill="hold">
                                    <p:stCondLst>
                                      <p:cond delay="0"/>
                                    </p:stCondLst>
                                  </p:cTn>
                                  <p:tgtEl>
                                    <p:spTgt spid="85">
                                      <p:txEl>
                                        <p:pRg st="3" end="3"/>
                                      </p:txEl>
                                    </p:spTgt>
                                  </p:tgtEl>
                                  <p:attrNameLst>
                                    <p:attrName>ppt_c</p:attrName>
                                  </p:attrNameLst>
                                </p:cBhvr>
                                <p:to>
                                  <a:srgbClr val="80808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5">
                                            <p:txEl>
                                              <p:pRg st="5" end="5"/>
                                            </p:txEl>
                                          </p:spTgt>
                                        </p:tgtEl>
                                        <p:attrNameLst>
                                          <p:attrName>style.visibility</p:attrName>
                                        </p:attrNameLst>
                                      </p:cBhvr>
                                      <p:to>
                                        <p:strVal val="visible"/>
                                      </p:to>
                                    </p:set>
                                  </p:childTnLst>
                                </p:cTn>
                              </p:par>
                              <p:animClr clrSpc="rgb">
                                <p:cBhvr>
                                  <p:cTn id="43" dur="1" fill="hold">
                                    <p:stCondLst>
                                      <p:cond delay="0"/>
                                    </p:stCondLst>
                                  </p:cTn>
                                  <p:tgtEl>
                                    <p:spTgt spid="85">
                                      <p:txEl>
                                        <p:pRg st="4" end="4"/>
                                      </p:txEl>
                                    </p:spTgt>
                                  </p:tgtEl>
                                  <p:attrNameLst>
                                    <p:attrName>ppt_c</p:attrName>
                                  </p:attrNameLst>
                                </p:cBhvr>
                                <p:to>
                                  <a:srgbClr val="80808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85">
                                            <p:txEl>
                                              <p:pRg st="6" end="6"/>
                                            </p:txEl>
                                          </p:spTgt>
                                        </p:tgtEl>
                                        <p:attrNameLst>
                                          <p:attrName>style.visibility</p:attrName>
                                        </p:attrNameLst>
                                      </p:cBhvr>
                                      <p:to>
                                        <p:strVal val="visible"/>
                                      </p:to>
                                    </p:set>
                                  </p:childTnLst>
                                </p:cTn>
                              </p:par>
                              <p:animClr clrSpc="rgb">
                                <p:cBhvr>
                                  <p:cTn id="48" dur="1" fill="hold">
                                    <p:stCondLst>
                                      <p:cond delay="0"/>
                                    </p:stCondLst>
                                  </p:cTn>
                                  <p:tgtEl>
                                    <p:spTgt spid="85">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animClr clrSpc="rgb">
                                <p:cBhvr>
                                  <p:cTn id="51" dur="1" fill="hold"/>
                                  <p:tgtEl>
                                    <p:spTgt spid="85">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A28E-517E-4119-AE12-3133EFA4EB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B6D4-E2EB-4CCE-8630-FAC7B29ABF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 3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1E7E-2ACD-45BC-9BDB-ABC0192E66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414C-FB28-4589-BD52-AC0E09BE0D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EF43-6853-4B13-89A3-F836D70198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BFC0-C35A-417C-B9A2-7050317CFF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0 October 2011</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2FA8-29BB-4B88-A0B4-3E6F0C7C9B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1-10-20T13:09:31Z</dcterms:modified>
  <cp:revision>52</cp:revision>
  <dc:subject/>
  <dc:title>Aims and Objectives</dc:title>
</cp:coreProperties>
</file>